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80CFC5-B051-494A-A075-FC14992AE56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885B3B-88E0-4B6A-9C79-B43E583F0F9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2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11620F-A029-4EB4-9040-93897205B20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6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6A9415-58CC-4FAC-A72E-243D9D0614B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0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479BD5-27DD-4914-A3AE-73C90E17713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F58CF1-374C-4E96-A093-273EDF3CF47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8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3238F8-651A-4E83-B54A-A45D42FCA49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C5CDBC-97EA-447C-9F76-D886A51F4BE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488519-C1B3-4666-B970-23632577D66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A58FAF-5D18-4169-BC73-9259B4DC83D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C527D6-9CAE-4E0D-948E-56AEAC2DEAD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D1DA71-39DA-456F-A265-7B84182F02C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44ECD0-C6FC-48F9-9241-B3CDD5101DE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8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4EA-88B9-416B-866B-3644294C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D9F-FAE5-474D-9576-44653575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A79-A4FF-447B-9C01-761FACD3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97E-2206-4EC2-985C-CAC6BF1E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12B0-7BF6-448C-9BCB-6BC5BD07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DB5E-6C43-4982-A60C-566F7087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3FD8-D514-45CD-BBBE-3DD08703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9C5F-D780-4C8B-A3AC-E8F3E7E9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71AA-81A7-4EDF-9D4B-DFEB44CB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1082-D119-4182-B628-C9E2CDD6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CB2D-A073-4572-AB8F-30BF1547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2E7-78D0-4793-B491-369341A8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2C07-4EE0-4530-B1E4-E5C6BC77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68E3-F688-4047-951C-3B346FA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FF8B-6838-4D8A-9C57-31F6F6B2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6905-5BB9-4FC7-8138-16E9BC23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EFF0-1AF7-4EDA-BB70-C3EB391B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539-4A0F-4566-B77E-06B1E896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BB8-504B-4CEE-A75A-C640B8E6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201-0452-4C40-BD62-6BA619F9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F87-02DE-4C27-A77C-43E67C63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147-8167-4C37-97A3-8FD53F24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7BA-1B68-47FA-9727-DCF59A27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0A8-AC39-4A3B-828E-2519BF5C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152E-7B52-4B45-9A9C-7885427A7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2D03-A3BF-4AD3-A00E-0B02214494BF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Exact string search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4716360" y="6308640"/>
            <a:ext cx="4427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Paper on Cuckoo Hash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Line 37"/>
          <p:cNvSpPr/>
          <p:nvPr/>
        </p:nvSpPr>
        <p:spPr>
          <a:xfrm flipH="1" flipV="1">
            <a:off x="2438280" y="2742840"/>
            <a:ext cx="190512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Text Box 38"/>
          <p:cNvSpPr/>
          <p:nvPr/>
        </p:nvSpPr>
        <p:spPr>
          <a:xfrm>
            <a:off x="3277440" y="33019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Line 39"/>
          <p:cNvSpPr/>
          <p:nvPr/>
        </p:nvSpPr>
        <p:spPr>
          <a:xfrm flipH="1" flipV="1">
            <a:off x="2438280" y="2742840"/>
            <a:ext cx="190512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85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uckoo Hashing Exampl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Line 31"/>
          <p:cNvSpPr/>
          <p:nvPr/>
        </p:nvSpPr>
        <p:spPr>
          <a:xfrm>
            <a:off x="2438280" y="2743200"/>
            <a:ext cx="35816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Line 32"/>
          <p:cNvSpPr/>
          <p:nvPr/>
        </p:nvSpPr>
        <p:spPr>
          <a:xfrm>
            <a:off x="4267080" y="2743200"/>
            <a:ext cx="763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Line 33"/>
          <p:cNvSpPr/>
          <p:nvPr/>
        </p:nvSpPr>
        <p:spPr>
          <a:xfrm flipH="1">
            <a:off x="3352680" y="2743200"/>
            <a:ext cx="2743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Line 34"/>
          <p:cNvSpPr/>
          <p:nvPr/>
        </p:nvSpPr>
        <p:spPr>
          <a:xfrm flipV="1">
            <a:off x="4191120" y="274284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Line 35"/>
          <p:cNvSpPr/>
          <p:nvPr/>
        </p:nvSpPr>
        <p:spPr>
          <a:xfrm flipH="1" flipV="1">
            <a:off x="24382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Line 36"/>
          <p:cNvSpPr/>
          <p:nvPr/>
        </p:nvSpPr>
        <p:spPr>
          <a:xfrm flipV="1">
            <a:off x="6019920" y="2819160"/>
            <a:ext cx="7596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Text Box 37"/>
          <p:cNvSpPr/>
          <p:nvPr/>
        </p:nvSpPr>
        <p:spPr>
          <a:xfrm>
            <a:off x="5410800" y="35053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Line 38"/>
          <p:cNvSpPr/>
          <p:nvPr/>
        </p:nvSpPr>
        <p:spPr>
          <a:xfrm flipH="1" flipV="1">
            <a:off x="4266720" y="2742840"/>
            <a:ext cx="175284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ttangolo arrotondato 5"/>
          <p:cNvSpPr/>
          <p:nvPr/>
        </p:nvSpPr>
        <p:spPr>
          <a:xfrm>
            <a:off x="785880" y="5929200"/>
            <a:ext cx="8358120" cy="928800"/>
          </a:xfrm>
          <a:prstGeom prst="roundRect">
            <a:avLst>
              <a:gd name="adj" fmla="val 16667"/>
            </a:avLst>
          </a:prstGeom>
          <a:solidFill>
            <a:srgbClr val="745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Random (bipartite) graph: node=cell, edge=ke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atural Extens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Lucida Sans"/>
              </a:rPr>
              <a:t>More than 2 hashes (choices) per ke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ery different: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ypergraph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nstead of graph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igher memory utiliz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 choices : 90+% in experi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 choices : about 97%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Lucida Sans"/>
              </a:rPr>
              <a:t>2 hashes +  bins of B-size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lanced allocation and tightly O(1)-size bi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ion sees a tree of possible evict+ins path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6000840" y="3643200"/>
            <a:ext cx="3071880" cy="857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but more insert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(and random acces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6286680" y="6072120"/>
            <a:ext cx="285732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ore memo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...but more loc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Making one-side errors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ounded Rectangle 3"/>
          <p:cNvSpPr/>
          <p:nvPr/>
        </p:nvSpPr>
        <p:spPr>
          <a:xfrm>
            <a:off x="3780000" y="6308640"/>
            <a:ext cx="5364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Paper on Bloom Fil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3111480" y="5800680"/>
            <a:ext cx="2262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7675560" cy="38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keep track of the URLs visited by a crawler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RLs ar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lo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eck should b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very 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499"/>
              </a:spcBef>
              <a:spcAft>
                <a:spcPts val="876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 care about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small errors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≈ page not crawl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072120" y="5429160"/>
            <a:ext cx="2857680" cy="135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Bloom Fil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over crawled URL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earching with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errors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rcRect l="0" t="25756" r="0" b="0"/>
          <a:stretch/>
        </p:blipFill>
        <p:spPr>
          <a:xfrm>
            <a:off x="0" y="1773360"/>
            <a:ext cx="9144000" cy="5110200"/>
          </a:xfrm>
          <a:prstGeom prst="rect">
            <a:avLst/>
          </a:prstGeom>
          <a:ln w="0">
            <a:noFill/>
          </a:ln>
        </p:spPr>
      </p:pic>
      <p:sp>
        <p:nvSpPr>
          <p:cNvPr id="393" name="Rettangolo 4"/>
          <p:cNvSpPr/>
          <p:nvPr/>
        </p:nvSpPr>
        <p:spPr>
          <a:xfrm>
            <a:off x="0" y="6143760"/>
            <a:ext cx="914400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97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4357800" y="5286240"/>
            <a:ext cx="32144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Exact 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425960" y="4245120"/>
            <a:ext cx="255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8000"/>
                </a:solidFill>
                <a:latin typeface="Comic Sans MS"/>
              </a:rPr>
              <a:t>Hashing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Rounded Rectangle 5"/>
          <p:cNvSpPr/>
          <p:nvPr/>
        </p:nvSpPr>
        <p:spPr>
          <a:xfrm>
            <a:off x="5003640" y="5805360"/>
            <a:ext cx="3600720" cy="792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Problem: false posi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5"/>
          <p:cNvSpPr/>
          <p:nvPr/>
        </p:nvSpPr>
        <p:spPr>
          <a:xfrm>
            <a:off x="6175440" y="3214800"/>
            <a:ext cx="539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429680" y="3176640"/>
            <a:ext cx="323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Oval 7"/>
          <p:cNvSpPr/>
          <p:nvPr/>
        </p:nvSpPr>
        <p:spPr>
          <a:xfrm>
            <a:off x="6929280" y="2928960"/>
            <a:ext cx="285840" cy="285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Oval 8"/>
          <p:cNvSpPr/>
          <p:nvPr/>
        </p:nvSpPr>
        <p:spPr>
          <a:xfrm>
            <a:off x="7429680" y="3929040"/>
            <a:ext cx="285480" cy="3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Oval 9"/>
          <p:cNvSpPr/>
          <p:nvPr/>
        </p:nvSpPr>
        <p:spPr>
          <a:xfrm>
            <a:off x="6929280" y="2357280"/>
            <a:ext cx="2858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2786040" y="2571840"/>
            <a:ext cx="278604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5"/>
          <p:cNvSpPr/>
          <p:nvPr/>
        </p:nvSpPr>
        <p:spPr>
          <a:xfrm>
            <a:off x="6804000" y="4508640"/>
            <a:ext cx="2160720" cy="43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Not perfectly true but.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Rettangolo 5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857160" y="4000680"/>
            <a:ext cx="650088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785880" y="5143680"/>
            <a:ext cx="800100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2"/>
          <p:cNvSpPr/>
          <p:nvPr/>
        </p:nvSpPr>
        <p:spPr>
          <a:xfrm>
            <a:off x="214200" y="3357720"/>
            <a:ext cx="892980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71680" y="3143160"/>
            <a:ext cx="778644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642960" y="4357800"/>
            <a:ext cx="77868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29" name="Object 3"/>
          <p:cNvGraphicFramePr/>
          <p:nvPr/>
        </p:nvGraphicFramePr>
        <p:xfrm>
          <a:off x="2292480" y="3413160"/>
          <a:ext cx="3994200" cy="246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2480" y="3413160"/>
                    <a:ext cx="399420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Text Box 4"/>
          <p:cNvSpPr/>
          <p:nvPr/>
        </p:nvSpPr>
        <p:spPr>
          <a:xfrm>
            <a:off x="6948720" y="4140360"/>
            <a:ext cx="14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Lucida Sans"/>
                <a:ea typeface="Arial"/>
              </a:rPr>
              <a:t>m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"/>
              </a:rPr>
              <a:t>/</a:t>
            </a:r>
            <a:r>
              <a:rPr b="0" i="1" lang="en-US" sz="2800" spc="-1" strike="noStrike">
                <a:solidFill>
                  <a:srgbClr val="c00000"/>
                </a:solidFill>
                <a:latin typeface="Lucida Sans"/>
                <a:ea typeface="Arial"/>
              </a:rPr>
              <a:t>n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"/>
              </a:rPr>
              <a:t> = 8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Line 5"/>
          <p:cNvSpPr/>
          <p:nvPr/>
        </p:nvSpPr>
        <p:spPr>
          <a:xfrm flipH="1">
            <a:off x="4276440" y="4214880"/>
            <a:ext cx="152280" cy="1066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3475080" y="39574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Opt </a:t>
            </a:r>
            <a:r>
              <a:rPr b="0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= 5.45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6286680" y="5214960"/>
            <a:ext cx="2857320" cy="1643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We do have a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xplicit formul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for the optimal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35" name="Picture 3" descr="C:\Users\ferragin\Desktop\Picture3.png"/>
          <p:cNvPicPr/>
          <p:nvPr/>
        </p:nvPicPr>
        <p:blipFill>
          <a:blip r:embed="rId4"/>
          <a:stretch/>
        </p:blipFill>
        <p:spPr>
          <a:xfrm>
            <a:off x="249120" y="4286160"/>
            <a:ext cx="18939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571680" y="1928880"/>
            <a:ext cx="778644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642960" y="4357800"/>
            <a:ext cx="77868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2" name="Picture 3" descr="C:\Users\ferragin\Desktop\Picture3.png"/>
          <p:cNvPicPr/>
          <p:nvPr/>
        </p:nvPicPr>
        <p:blipFill>
          <a:blip r:embed="rId2"/>
          <a:stretch/>
        </p:blipFill>
        <p:spPr>
          <a:xfrm>
            <a:off x="4035600" y="3108240"/>
            <a:ext cx="1893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Prefix-string search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Rounded Rectangle 4"/>
          <p:cNvSpPr/>
          <p:nvPr/>
        </p:nvSpPr>
        <p:spPr>
          <a:xfrm>
            <a:off x="5724360" y="6119640"/>
            <a:ext cx="327672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3.1 and 5.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refix-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refix 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: speeding-up sear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53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454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5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6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457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8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59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61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462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3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64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465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6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67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71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472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3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4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5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476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7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8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479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0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1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482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3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4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485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6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7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488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9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90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491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2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93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95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496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7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98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02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503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4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05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AutoShape 16"/>
          <p:cNvSpPr/>
          <p:nvPr/>
        </p:nvSpPr>
        <p:spPr>
          <a:xfrm>
            <a:off x="3643200" y="585792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ro:  O(p) search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: edge + node labels and tree struc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7236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ront-coding: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queezing str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691200" y="3521160"/>
            <a:ext cx="31464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Natural/Washcloth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18" name="Group 5"/>
          <p:cNvGrpSpPr/>
          <p:nvPr/>
        </p:nvGrpSpPr>
        <p:grpSpPr>
          <a:xfrm>
            <a:off x="538200" y="3449520"/>
            <a:ext cx="3744720" cy="2950920"/>
            <a:chOff x="538200" y="3449520"/>
            <a:chExt cx="3744720" cy="2950920"/>
          </a:xfrm>
        </p:grpSpPr>
        <p:sp>
          <p:nvSpPr>
            <p:cNvPr id="519" name="Rectangle 6"/>
            <p:cNvSpPr/>
            <p:nvPr/>
          </p:nvSpPr>
          <p:spPr>
            <a:xfrm>
              <a:off x="538200" y="3449520"/>
              <a:ext cx="3744720" cy="2087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0" name="Rectangle 7"/>
            <p:cNvSpPr/>
            <p:nvPr/>
          </p:nvSpPr>
          <p:spPr>
            <a:xfrm>
              <a:off x="538200" y="5608440"/>
              <a:ext cx="3744720" cy="792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21" name="Text Box 8"/>
          <p:cNvSpPr/>
          <p:nvPr/>
        </p:nvSpPr>
        <p:spPr>
          <a:xfrm>
            <a:off x="5295600" y="3160800"/>
            <a:ext cx="22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99"/>
                </a:solidFill>
                <a:latin typeface="Lucida Sans"/>
              </a:rPr>
              <a:t>0    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42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22" name="Group 13"/>
          <p:cNvGrpSpPr/>
          <p:nvPr/>
        </p:nvGrpSpPr>
        <p:grpSpPr>
          <a:xfrm>
            <a:off x="4376160" y="3159000"/>
            <a:ext cx="4299480" cy="2555640"/>
            <a:chOff x="4376160" y="3159000"/>
            <a:chExt cx="4299480" cy="2555640"/>
          </a:xfrm>
        </p:grpSpPr>
        <p:grpSp>
          <p:nvGrpSpPr>
            <p:cNvPr id="523" name="Group 14"/>
            <p:cNvGrpSpPr/>
            <p:nvPr/>
          </p:nvGrpSpPr>
          <p:grpSpPr>
            <a:xfrm>
              <a:off x="4376160" y="3159000"/>
              <a:ext cx="4299480" cy="2555640"/>
              <a:chOff x="4376160" y="3159000"/>
              <a:chExt cx="4299480" cy="2555640"/>
            </a:xfrm>
          </p:grpSpPr>
          <p:sp>
            <p:nvSpPr>
              <p:cNvPr id="524" name="Rectangle 15"/>
              <p:cNvSpPr/>
              <p:nvPr/>
            </p:nvSpPr>
            <p:spPr>
              <a:xfrm>
                <a:off x="5218200" y="3160440"/>
                <a:ext cx="3440160" cy="2017800"/>
              </a:xfrm>
              <a:prstGeom prst="rect">
                <a:avLst/>
              </a:pr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5" name="AutoShape 16"/>
              <p:cNvSpPr/>
              <p:nvPr/>
            </p:nvSpPr>
            <p:spPr>
              <a:xfrm>
                <a:off x="4425840" y="3466800"/>
                <a:ext cx="720720" cy="977760"/>
              </a:xfrm>
              <a:prstGeom prst="rightArrow">
                <a:avLst>
                  <a:gd name="adj1" fmla="val 41065"/>
                  <a:gd name="adj2" fmla="val 2159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6" name="Text Box 17"/>
              <p:cNvSpPr/>
              <p:nvPr/>
            </p:nvSpPr>
            <p:spPr>
              <a:xfrm>
                <a:off x="4376160" y="3159000"/>
                <a:ext cx="83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33</a:t>
                </a:r>
                <a:r>
                  <a:rPr b="0" lang="it-IT" sz="1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</a:t>
                </a: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45%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7" name="Rectangle 18"/>
              <p:cNvSpPr/>
              <p:nvPr/>
            </p:nvSpPr>
            <p:spPr>
              <a:xfrm>
                <a:off x="5218200" y="5211360"/>
                <a:ext cx="3457440" cy="5032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28" name="Text Box 19"/>
            <p:cNvSpPr/>
            <p:nvPr/>
          </p:nvSpPr>
          <p:spPr>
            <a:xfrm>
              <a:off x="5319360" y="5249520"/>
              <a:ext cx="3137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99"/>
                  </a:solidFill>
                  <a:latin typeface="Lucida Sans"/>
                </a:rPr>
                <a:t>0    http://checkmate.com/All/Natural/Washcloth.html</a:t>
              </a:r>
              <a:r>
                <a:rPr b="0" lang="it-IT" sz="900" spc="-1" strike="noStrike">
                  <a:solidFill>
                    <a:srgbClr val="000000"/>
                  </a:solidFill>
                  <a:latin typeface="Lucida Sans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537840" y="2252520"/>
            <a:ext cx="66031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systile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yzyget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zygial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yzy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30" name="Group 27"/>
          <p:cNvGrpSpPr/>
          <p:nvPr/>
        </p:nvGrpSpPr>
        <p:grpSpPr>
          <a:xfrm>
            <a:off x="2268360" y="2265480"/>
            <a:ext cx="4030920" cy="968760"/>
            <a:chOff x="2268360" y="2265480"/>
            <a:chExt cx="4030920" cy="968760"/>
          </a:xfrm>
        </p:grpSpPr>
        <p:sp>
          <p:nvSpPr>
            <p:cNvPr id="531" name="Rectangle 21"/>
            <p:cNvSpPr/>
            <p:nvPr/>
          </p:nvSpPr>
          <p:spPr>
            <a:xfrm>
              <a:off x="2268360" y="2265480"/>
              <a:ext cx="35892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2" name="Rectangle 22"/>
            <p:cNvSpPr/>
            <p:nvPr/>
          </p:nvSpPr>
          <p:spPr>
            <a:xfrm>
              <a:off x="3924360" y="2265480"/>
              <a:ext cx="93492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3" name="Rectangle 23"/>
            <p:cNvSpPr/>
            <p:nvPr/>
          </p:nvSpPr>
          <p:spPr>
            <a:xfrm>
              <a:off x="5364000" y="2265480"/>
              <a:ext cx="93528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4" name="Text Box 24"/>
            <p:cNvSpPr/>
            <p:nvPr/>
          </p:nvSpPr>
          <p:spPr>
            <a:xfrm>
              <a:off x="2277000" y="28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5" name="Text Box 25"/>
            <p:cNvSpPr/>
            <p:nvPr/>
          </p:nvSpPr>
          <p:spPr>
            <a:xfrm>
              <a:off x="422028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6" name="Text Box 26"/>
            <p:cNvSpPr/>
            <p:nvPr/>
          </p:nvSpPr>
          <p:spPr>
            <a:xfrm>
              <a:off x="566028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37" name="AutoShape 29"/>
          <p:cNvSpPr/>
          <p:nvPr/>
        </p:nvSpPr>
        <p:spPr>
          <a:xfrm>
            <a:off x="5327640" y="6094440"/>
            <a:ext cx="37450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Gzip may be much bett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Hashing with chai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200" y="1852560"/>
            <a:ext cx="8715600" cy="44341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786280" y="2638440"/>
            <a:ext cx="307188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4"/>
          <p:cNvSpPr/>
          <p:nvPr/>
        </p:nvSpPr>
        <p:spPr>
          <a:xfrm>
            <a:off x="1452600" y="5992920"/>
            <a:ext cx="7121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 c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al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Text Box 50"/>
          <p:cNvSpPr/>
          <p:nvPr/>
        </p:nvSpPr>
        <p:spPr>
          <a:xfrm>
            <a:off x="2124000" y="4363920"/>
            <a:ext cx="18734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4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545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6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47" name="Text Box 59"/>
          <p:cNvSpPr/>
          <p:nvPr/>
        </p:nvSpPr>
        <p:spPr>
          <a:xfrm>
            <a:off x="4376160" y="3357720"/>
            <a:ext cx="46292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Line 63"/>
          <p:cNvSpPr/>
          <p:nvPr/>
        </p:nvSpPr>
        <p:spPr>
          <a:xfrm flipV="1">
            <a:off x="5076720" y="6165360"/>
            <a:ext cx="1366920" cy="49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4572000" y="1857240"/>
            <a:ext cx="37468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typically 1 I/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pace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Front-coding over bucket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Rectangle 19"/>
          <p:cNvSpPr/>
          <p:nvPr/>
        </p:nvSpPr>
        <p:spPr>
          <a:xfrm>
            <a:off x="1857240" y="5857920"/>
            <a:ext cx="30196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Rectangle 20"/>
          <p:cNvSpPr/>
          <p:nvPr/>
        </p:nvSpPr>
        <p:spPr>
          <a:xfrm>
            <a:off x="5000760" y="5857920"/>
            <a:ext cx="321444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1911240" y="6215040"/>
            <a:ext cx="7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y issue: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a good hash fun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97600" y="174456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0000"/>
                </a:solidFill>
                <a:uFillTx/>
                <a:latin typeface="Lucida Sans"/>
                <a:ea typeface="Arial"/>
              </a:rPr>
              <a:t>Basic assumption:</a:t>
            </a:r>
            <a:r>
              <a:rPr b="0" lang="it-IT" sz="3200" spc="-1" strike="noStrike">
                <a:solidFill>
                  <a:srgbClr val="333399"/>
                </a:solidFill>
                <a:latin typeface="Lucida Sans"/>
                <a:ea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  <a:ea typeface="Arial"/>
              </a:rPr>
              <a:t>Uniform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14200" y="3030480"/>
            <a:ext cx="8786880" cy="1481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34920" y="503244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Avg #keys per slot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n * (1/m)  = n/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</a:t>
            </a:r>
            <a:r>
              <a:rPr b="0" lang="it-IT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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Arial"/>
              </a:rPr>
              <a:t>(load factor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50920" y="5143680"/>
            <a:ext cx="8424720" cy="13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4000680" y="3500280"/>
            <a:ext cx="2928600" cy="500400"/>
            <a:chOff x="4000680" y="3500280"/>
            <a:chExt cx="2928600" cy="500400"/>
          </a:xfrm>
        </p:grpSpPr>
        <p:sp>
          <p:nvSpPr>
            <p:cNvPr id="105" name="Straight Connector 9"/>
            <p:cNvSpPr/>
            <p:nvPr/>
          </p:nvSpPr>
          <p:spPr>
            <a:xfrm>
              <a:off x="4000680" y="350028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Straight Connector 10"/>
            <p:cNvSpPr/>
            <p:nvPr/>
          </p:nvSpPr>
          <p:spPr>
            <a:xfrm>
              <a:off x="4500720" y="400068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earch cos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57280" y="1838160"/>
            <a:ext cx="8029440" cy="318168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880920" y="5715000"/>
            <a:ext cx="7120080" cy="1071720"/>
            <a:chOff x="880920" y="5715000"/>
            <a:chExt cx="7120080" cy="1071720"/>
          </a:xfrm>
        </p:grpSpPr>
        <p:pic>
          <p:nvPicPr>
            <p:cNvPr id="110" name="Picture 3" descr=""/>
            <p:cNvPicPr/>
            <p:nvPr/>
          </p:nvPicPr>
          <p:blipFill>
            <a:blip r:embed="rId2"/>
            <a:stretch/>
          </p:blipFill>
          <p:spPr>
            <a:xfrm>
              <a:off x="880920" y="5774040"/>
              <a:ext cx="712008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6"/>
            <p:cNvSpPr/>
            <p:nvPr/>
          </p:nvSpPr>
          <p:spPr>
            <a:xfrm>
              <a:off x="880920" y="5715000"/>
              <a:ext cx="7072560" cy="107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112" name="Picture 1" descr="C:\Users\ferragin\Desktop\Picture1.png"/>
          <p:cNvPicPr/>
          <p:nvPr/>
        </p:nvPicPr>
        <p:blipFill>
          <a:blip r:embed="rId3"/>
          <a:stretch/>
        </p:blipFill>
        <p:spPr>
          <a:xfrm>
            <a:off x="5880240" y="3071880"/>
            <a:ext cx="3263760" cy="23004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5786280" y="3000240"/>
            <a:ext cx="3357720" cy="2357640"/>
          </a:xfrm>
          <a:prstGeom prst="rect">
            <a:avLst/>
          </a:prstGeom>
          <a:noFill/>
          <a:ln w="381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071960" y="6202440"/>
            <a:ext cx="1913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m = </a:t>
            </a:r>
            <a:r>
              <a:rPr b="0" lang="it-IT" sz="3200" spc="-1" strike="noStrike">
                <a:solidFill>
                  <a:srgbClr val="c00000"/>
                </a:solidFill>
                <a:latin typeface="Symbol"/>
                <a:ea typeface="Symbol"/>
              </a:rPr>
              <a:t></a:t>
            </a: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In practi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752120"/>
            <a:ext cx="80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trivial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hash function 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571840" y="2630520"/>
            <a:ext cx="305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5628600" y="2916360"/>
            <a:ext cx="2058840" cy="581400"/>
            <a:chOff x="5628600" y="2916360"/>
            <a:chExt cx="2058840" cy="581400"/>
          </a:xfrm>
        </p:grpSpPr>
        <p:cxnSp>
          <p:nvCxnSpPr>
            <p:cNvPr id="119" name="Straight Arrow Connector 7"/>
            <p:cNvCxnSpPr/>
            <p:nvPr/>
          </p:nvCxnSpPr>
          <p:spPr>
            <a:xfrm flipH="1" flipV="1">
              <a:off x="5628600" y="3058200"/>
              <a:ext cx="786600" cy="3574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20" name="TextBox 8"/>
            <p:cNvSpPr/>
            <p:nvPr/>
          </p:nvSpPr>
          <p:spPr>
            <a:xfrm>
              <a:off x="6372720" y="291636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1" name="Rectangle 10"/>
          <p:cNvSpPr/>
          <p:nvPr/>
        </p:nvSpPr>
        <p:spPr>
          <a:xfrm>
            <a:off x="7429680" y="4643280"/>
            <a:ext cx="14256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1071720" y="4572000"/>
            <a:ext cx="7000560" cy="1143000"/>
            <a:chOff x="1071720" y="4572000"/>
            <a:chExt cx="7000560" cy="1143000"/>
          </a:xfrm>
        </p:grpSpPr>
        <p:pic>
          <p:nvPicPr>
            <p:cNvPr id="123" name="Picture 5" descr=""/>
            <p:cNvPicPr/>
            <p:nvPr/>
          </p:nvPicPr>
          <p:blipFill>
            <a:blip r:embed="rId2"/>
            <a:stretch/>
          </p:blipFill>
          <p:spPr>
            <a:xfrm>
              <a:off x="1176480" y="4652640"/>
              <a:ext cx="66103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12"/>
            <p:cNvSpPr/>
            <p:nvPr/>
          </p:nvSpPr>
          <p:spPr>
            <a:xfrm>
              <a:off x="1071720" y="4572000"/>
              <a:ext cx="7000560" cy="11430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it-IT" sz="36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i="1" lang="it-IT" sz="3600" spc="-1" strike="noStrike">
                <a:solidFill>
                  <a:srgbClr val="c00000"/>
                </a:solidFill>
                <a:latin typeface="Lucida Sans"/>
              </a:rPr>
              <a:t>provably good”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ash i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1680" y="480024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Each a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is selected at random in [0,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7" name="Group 21"/>
          <p:cNvGrpSpPr/>
          <p:nvPr/>
        </p:nvGrpSpPr>
        <p:grpSpPr>
          <a:xfrm>
            <a:off x="1428840" y="2357280"/>
            <a:ext cx="6000840" cy="642960"/>
            <a:chOff x="1428840" y="2357280"/>
            <a:chExt cx="6000840" cy="642960"/>
          </a:xfrm>
        </p:grpSpPr>
        <p:sp>
          <p:nvSpPr>
            <p:cNvPr id="128" name="Rectangle 3"/>
            <p:cNvSpPr/>
            <p:nvPr/>
          </p:nvSpPr>
          <p:spPr>
            <a:xfrm>
              <a:off x="1428840" y="235728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4"/>
            <p:cNvSpPr/>
            <p:nvPr/>
          </p:nvSpPr>
          <p:spPr>
            <a:xfrm>
              <a:off x="14288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22143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30002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66441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Straight Connector 14"/>
            <p:cNvSpPr/>
            <p:nvPr/>
          </p:nvSpPr>
          <p:spPr>
            <a:xfrm>
              <a:off x="4214880" y="264312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TextBox 15"/>
            <p:cNvSpPr/>
            <p:nvPr/>
          </p:nvSpPr>
          <p:spPr>
            <a:xfrm>
              <a:off x="161820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TextBox 16"/>
            <p:cNvSpPr/>
            <p:nvPr/>
          </p:nvSpPr>
          <p:spPr>
            <a:xfrm>
              <a:off x="246168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Box 17"/>
            <p:cNvSpPr/>
            <p:nvPr/>
          </p:nvSpPr>
          <p:spPr>
            <a:xfrm>
              <a:off x="324756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TextBox 19"/>
            <p:cNvSpPr/>
            <p:nvPr/>
          </p:nvSpPr>
          <p:spPr>
            <a:xfrm>
              <a:off x="6844680" y="2428560"/>
              <a:ext cx="37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8" name="Group 24"/>
          <p:cNvGrpSpPr/>
          <p:nvPr/>
        </p:nvGrpSpPr>
        <p:grpSpPr>
          <a:xfrm>
            <a:off x="1428840" y="1643040"/>
            <a:ext cx="1589760" cy="642960"/>
            <a:chOff x="1428840" y="1643040"/>
            <a:chExt cx="1589760" cy="642960"/>
          </a:xfrm>
        </p:grpSpPr>
        <p:sp>
          <p:nvSpPr>
            <p:cNvPr id="139" name="Left Brace 22"/>
            <p:cNvSpPr/>
            <p:nvPr/>
          </p:nvSpPr>
          <p:spPr>
            <a:xfrm rot="5400000">
              <a:off x="1643040" y="1714680"/>
              <a:ext cx="357120" cy="78552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9000 h 785520"/>
                <a:gd name="textAreaBottom" fmla="*/ 77652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TextBox 23"/>
            <p:cNvSpPr/>
            <p:nvPr/>
          </p:nvSpPr>
          <p:spPr>
            <a:xfrm>
              <a:off x="1860840" y="1643040"/>
              <a:ext cx="1157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≈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log</a:t>
              </a:r>
              <a:r>
                <a:rPr b="0" lang="it-IT" sz="2000" spc="-1" strike="noStrike" baseline="-25000">
                  <a:solidFill>
                    <a:srgbClr val="c00000"/>
                  </a:solidFill>
                  <a:latin typeface="Lucida Sans"/>
                </a:rPr>
                <a:t>2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1" name="TextBox 25"/>
          <p:cNvSpPr/>
          <p:nvPr/>
        </p:nvSpPr>
        <p:spPr>
          <a:xfrm>
            <a:off x="6301800" y="3214800"/>
            <a:ext cx="175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r ≈ L / log</a:t>
            </a:r>
            <a:r>
              <a:rPr b="0" lang="it-IT" sz="2000" spc="-1" strike="noStrike" baseline="-25000">
                <a:solidFill>
                  <a:srgbClr val="c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2" name="Group 26"/>
          <p:cNvGrpSpPr/>
          <p:nvPr/>
        </p:nvGrpSpPr>
        <p:grpSpPr>
          <a:xfrm>
            <a:off x="1428840" y="3929040"/>
            <a:ext cx="6000840" cy="642960"/>
            <a:chOff x="1428840" y="3929040"/>
            <a:chExt cx="6000840" cy="642960"/>
          </a:xfrm>
        </p:grpSpPr>
        <p:sp>
          <p:nvSpPr>
            <p:cNvPr id="143" name="Rectangle 27"/>
            <p:cNvSpPr/>
            <p:nvPr/>
          </p:nvSpPr>
          <p:spPr>
            <a:xfrm>
              <a:off x="1428840" y="392904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14288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22143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30002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66441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Straight Connector 32"/>
            <p:cNvSpPr/>
            <p:nvPr/>
          </p:nvSpPr>
          <p:spPr>
            <a:xfrm>
              <a:off x="4214880" y="421488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Box 33"/>
            <p:cNvSpPr/>
            <p:nvPr/>
          </p:nvSpPr>
          <p:spPr>
            <a:xfrm>
              <a:off x="161424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Box 34"/>
            <p:cNvSpPr/>
            <p:nvPr/>
          </p:nvSpPr>
          <p:spPr>
            <a:xfrm>
              <a:off x="245772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TextBox 35"/>
            <p:cNvSpPr/>
            <p:nvPr/>
          </p:nvSpPr>
          <p:spPr>
            <a:xfrm>
              <a:off x="324360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TextBox 36"/>
            <p:cNvSpPr/>
            <p:nvPr/>
          </p:nvSpPr>
          <p:spPr>
            <a:xfrm>
              <a:off x="6841080" y="400032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3" name="TextBox 40"/>
          <p:cNvSpPr/>
          <p:nvPr/>
        </p:nvSpPr>
        <p:spPr>
          <a:xfrm>
            <a:off x="664920" y="235728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675360" y="39290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843280" y="5462640"/>
            <a:ext cx="39434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37"/>
          <p:cNvGrpSpPr/>
          <p:nvPr/>
        </p:nvGrpSpPr>
        <p:grpSpPr>
          <a:xfrm>
            <a:off x="6714720" y="5786280"/>
            <a:ext cx="1899720" cy="642960"/>
            <a:chOff x="6714720" y="5786280"/>
            <a:chExt cx="1899720" cy="642960"/>
          </a:xfrm>
        </p:grpSpPr>
        <p:cxnSp>
          <p:nvCxnSpPr>
            <p:cNvPr id="157" name="Straight Arrow Connector 38"/>
            <p:cNvCxnSpPr/>
            <p:nvPr/>
          </p:nvCxnSpPr>
          <p:spPr>
            <a:xfrm flipH="1" flipV="1">
              <a:off x="6714720" y="6071760"/>
              <a:ext cx="786240" cy="35784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58" name="TextBox 39"/>
            <p:cNvSpPr/>
            <p:nvPr/>
          </p:nvSpPr>
          <p:spPr>
            <a:xfrm>
              <a:off x="7299720" y="578628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9" name="Rounded Rectangle 42"/>
          <p:cNvSpPr/>
          <p:nvPr/>
        </p:nvSpPr>
        <p:spPr>
          <a:xfrm>
            <a:off x="6215040" y="150012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 = max string l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 = table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Rounded Rectangle 43"/>
          <p:cNvSpPr/>
          <p:nvPr/>
        </p:nvSpPr>
        <p:spPr>
          <a:xfrm>
            <a:off x="4786200" y="6419880"/>
            <a:ext cx="4429080" cy="438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t necessarily: (...mod p) mod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uckoo Hash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Rectangle 53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60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Rectangle 61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62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64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67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Rectangle 68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69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ectangle 72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Rectangle 74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75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Rectangle 76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77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Rectangle 78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Rectangle 79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Line 80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Line 81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Line 82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Line 83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Line 84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285840" y="5857920"/>
            <a:ext cx="86439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ash tables, and </a:t>
            </a:r>
            <a:r>
              <a:rPr b="1" lang="it-IT" sz="20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andom choices where an item can be stor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7079400" y="34956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2-10-15T16:47:15Z</dcterms:modified>
  <cp:revision>1153</cp:revision>
  <dc:subject/>
  <dc:title>Web Algorithmics</dc:title>
</cp:coreProperties>
</file>